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893A-F18B-4E6B-ACE5-3E49AFAF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91F9-307A-49D4-A1E7-880E8E17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711F-8BBC-4D01-95AB-70D4C92A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812B-3607-419D-8CDC-16C175BE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9F20-4F09-415D-85D7-1EC52371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D82D-0E6E-4F33-800D-E77CF5A0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8B9B-C104-4F4A-B273-A2E1D5C7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D155-CD5D-4679-B921-04446954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809D-BAA7-4EE4-A141-96E346EB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86D4-F2E9-41EB-955E-F425547F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A0E1-3E8A-4AC0-9094-C261299E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42D1-8022-4028-93AC-45CFEBE8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9C52-1878-40E1-A898-BEB60DAFC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www.flickr.com/photos/sbam/120815886/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ela Bea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erosmith’s Rock N Roller coas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1" descr="Rock 'n' Roller Coaster by StartedByAMous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121932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cribe the transforma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ph of f(x)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th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g(x)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x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graph has been shifted to the right 5 uni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4419720" y="2819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y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2286000" y="2362320"/>
            <a:ext cx="308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a fun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y + 3x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4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4 – 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nd (g-f)(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 is -8x+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838080" y="1066680"/>
            <a:ext cx="7772400" cy="4419720"/>
          </a:xfrm>
          <a:prstGeom prst="wedgeRectCallout">
            <a:avLst>
              <a:gd name="adj1" fmla="val -23490"/>
              <a:gd name="adj2" fmla="val 588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Tower of Terr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033" descr="3724501b-Tower-of-Terror"/>
          <p:cNvPicPr/>
          <p:nvPr/>
        </p:nvPicPr>
        <p:blipFill>
          <a:blip r:embed="rId2"/>
          <a:stretch/>
        </p:blipFill>
        <p:spPr>
          <a:xfrm>
            <a:off x="2362320" y="114300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unction is a reflection in the y-ax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a vertical shift 5 units up of the graph of f(x)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x|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n equation for this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y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-x|+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his a fun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4 – 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nd (fg)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-1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2x+8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It’s a Small Wor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4" descr="http://z.about.com/d/themeparks/1/0/j/P/IASW8.jpg"/>
          <p:cNvPicPr/>
          <p:nvPr/>
        </p:nvPicPr>
        <p:blipFill>
          <a:blip r:embed="rId1"/>
          <a:stretch/>
        </p:blipFill>
        <p:spPr>
          <a:xfrm>
            <a:off x="2362320" y="1295280"/>
            <a:ext cx="476244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cribe the transforma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ph of f(x)=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th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g(x)=5(x-9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990720" y="22860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graph has been shifted 9 units right, 4 units up, and has a vertical stret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228600" y="380880"/>
            <a:ext cx="160020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2362320" y="380880"/>
            <a:ext cx="1752480" cy="703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it a func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876920" y="380880"/>
            <a:ext cx="1600200" cy="1008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tions with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7010280" y="380880"/>
            <a:ext cx="1752840" cy="703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 that Disney r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4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y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12" descr="fcns03"/>
          <p:cNvPicPr/>
          <p:nvPr/>
        </p:nvPicPr>
        <p:blipFill>
          <a:blip r:embed="rId1"/>
          <a:stretch/>
        </p:blipFill>
        <p:spPr>
          <a:xfrm>
            <a:off x="3048120" y="2082960"/>
            <a:ext cx="2176200" cy="19224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3"/>
          <p:cNvSpPr/>
          <p:nvPr/>
        </p:nvSpPr>
        <p:spPr>
          <a:xfrm>
            <a:off x="807480" y="156528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a fun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4 – 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nd (f/g)(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(3x+2)(4-5x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ummit Plumm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9" descr="spaceball"/>
          <p:cNvPicPr/>
          <p:nvPr/>
        </p:nvPicPr>
        <p:blipFill>
          <a:blip r:embed="rId1"/>
          <a:stretch/>
        </p:blipFill>
        <p:spPr>
          <a:xfrm>
            <a:off x="2190600" y="1843200"/>
            <a:ext cx="4762800" cy="3171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spaceball"/>
          <p:cNvPicPr/>
          <p:nvPr/>
        </p:nvPicPr>
        <p:blipFill>
          <a:blip r:embed="rId2"/>
          <a:stretch/>
        </p:blipFill>
        <p:spPr>
          <a:xfrm>
            <a:off x="2190600" y="1843200"/>
            <a:ext cx="4762800" cy="3171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spaceball"/>
          <p:cNvPicPr/>
          <p:nvPr/>
        </p:nvPicPr>
        <p:blipFill>
          <a:blip r:embed="rId3"/>
          <a:stretch/>
        </p:blipFill>
        <p:spPr>
          <a:xfrm>
            <a:off x="2190600" y="1771560"/>
            <a:ext cx="4762800" cy="3314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spaceball"/>
          <p:cNvPicPr/>
          <p:nvPr/>
        </p:nvPicPr>
        <p:blipFill>
          <a:blip r:embed="rId4"/>
          <a:stretch/>
        </p:blipFill>
        <p:spPr>
          <a:xfrm>
            <a:off x="2190600" y="1771560"/>
            <a:ext cx="4762800" cy="3314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7" descr="spaceball"/>
          <p:cNvPicPr/>
          <p:nvPr/>
        </p:nvPicPr>
        <p:blipFill>
          <a:blip r:embed="rId5"/>
          <a:stretch/>
        </p:blipFill>
        <p:spPr>
          <a:xfrm>
            <a:off x="2786040" y="1047600"/>
            <a:ext cx="3571920" cy="4762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1" descr="spaceball"/>
          <p:cNvPicPr/>
          <p:nvPr/>
        </p:nvPicPr>
        <p:blipFill>
          <a:blip r:embed="rId6"/>
          <a:stretch/>
        </p:blipFill>
        <p:spPr>
          <a:xfrm>
            <a:off x="2190600" y="1486080"/>
            <a:ext cx="4762800" cy="3886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3" descr="Summit Plummet by Junebug64."/>
          <p:cNvPicPr/>
          <p:nvPr/>
        </p:nvPicPr>
        <p:blipFill>
          <a:blip r:embed="rId7"/>
          <a:stretch/>
        </p:blipFill>
        <p:spPr>
          <a:xfrm>
            <a:off x="2190600" y="164304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990720" y="6094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cribe the transformation of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ph of f(x)=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 g(x)=(x+9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graph has been moved left 9 uni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y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3" descr="fcns02"/>
          <p:cNvPicPr/>
          <p:nvPr/>
        </p:nvPicPr>
        <p:blipFill>
          <a:blip r:embed="rId2"/>
          <a:stretch/>
        </p:blipFill>
        <p:spPr>
          <a:xfrm>
            <a:off x="2895480" y="2057400"/>
            <a:ext cx="2667240" cy="24256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4"/>
          <p:cNvSpPr/>
          <p:nvPr/>
        </p:nvSpPr>
        <p:spPr>
          <a:xfrm>
            <a:off x="1523880" y="12952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a fun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2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4 – 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(f+g)(x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-2x+6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Expedition Evere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033" descr="Expedition Everest"/>
          <p:cNvPicPr/>
          <p:nvPr/>
        </p:nvPicPr>
        <p:blipFill>
          <a:blip r:embed="rId2"/>
          <a:stretch/>
        </p:blipFill>
        <p:spPr>
          <a:xfrm>
            <a:off x="1752480" y="1371600"/>
            <a:ext cx="472464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cribe the transforma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ph of f(x)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th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g(x)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x|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graph has been shifted down 20 uni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35" descr="vert04"/>
          <p:cNvPicPr/>
          <p:nvPr/>
        </p:nvPicPr>
        <p:blipFill>
          <a:blip r:embed="rId2"/>
          <a:stretch/>
        </p:blipFill>
        <p:spPr>
          <a:xfrm>
            <a:off x="2743200" y="2743200"/>
            <a:ext cx="2552760" cy="19652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036"/>
          <p:cNvSpPr/>
          <p:nvPr/>
        </p:nvSpPr>
        <p:spPr>
          <a:xfrm>
            <a:off x="2133720" y="18288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a fun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4 – 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nd (f-g)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8x-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abeason</cp:lastModifiedBy>
  <cp:lastPrinted>2001-01-31T16:21:13Z</cp:lastPrinted>
  <dcterms:modified xsi:type="dcterms:W3CDTF">2010-04-20T18:07:55Z</dcterms:modified>
  <cp:revision>6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